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8ED56-7068-47D4-B764-8590C077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3B3BF-EA11-476F-9353-1C3581D7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166F7-346A-47DD-BD66-7A07B890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3B990-7A05-403B-9597-B9E61ABF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2038-76FE-47CF-B3EF-0BE2F8DD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D427-62C2-4153-8F4A-87714DBB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097D-5D47-4BC4-8913-A7905AA3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30D2-E138-4CFC-95F7-7FE5EE10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D47B-4AB0-46C6-9565-3E7E040C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B4A7-5427-4D3E-B4BF-D0F6C8D9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4E3B-C3F9-4339-A45D-1CDA110E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C08F2-C9D1-4525-A384-C310FC0E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F937-93AC-4F8F-B5BD-F6BD28DE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C75D-F11A-4CDC-895C-3A833C7D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479D-E7AF-4763-AF61-3F2BFAF3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AE5C-B9F1-48CC-93F1-2CFF7B0B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692F-73B5-4E40-B34A-0D3F99DF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10F78-68C5-491A-AC04-01E73AFA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D1476-0FFE-449F-B1D5-53195492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0E576-2DF2-49EB-9A92-D4A9E394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72AD9-756A-4690-BDB0-AE4C48DA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6976A-8D4B-4F6D-A2DD-A8BB57FB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6E96F-6CE6-4040-B32D-4138C21F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7779C-3472-48D6-AD7F-6FF67698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33E3-E026-4FB8-982C-CDF41C8DF6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B113-27FE-4BC0-B55E-AB48999978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Column Transposition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ranspos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3920" y="1936800"/>
            <a:ext cx="829332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are three tasks involved in breaking a column transposition ciph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possible rectangle s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correct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column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0D382-1C6E-487D-93D6-11412BE7CF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Rect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rst step in analyzing a column transposition is determining the number of colum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completely filled transposition, the number of characters is the product of the number of rows and the number of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factor the number of characters to determine possible row and column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4B70C-E3E2-40D3-A3A3-704DF3B6DA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Rectang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factors only supply possible column sizes - test each possibility by doing a vowel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line of plaintext should contain about 40% vow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count the vowels in each row of each possible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e with the best match to 40% is the best choice for the actual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9A5A9-2990-4E84-82D7-44DE38AB7C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 Affi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43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rectangle size is determined, the column order must be dis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 is taken of all the characteristics of the plaintext langua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in all languages there are certain letters usually of medium or low frequency which combine with other letters to form diagrams of high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(medium frequency) combines with T to form TH (highest frequ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combines with C (medium frequency) to form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(low frequency) combines with E to form VE (medium frequency in military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B73F9-B3E0-4FAB-956D-3113AC0B11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re is an H, attempts should be made to combine it with a T or a 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V should be combined first with an 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K should be combined first with a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4E462-D731-4590-8AC8-3A2F7BE766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ot Le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, there is usually in every language at least one letter which can be followed by only certain other letters form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ligatory sequ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variable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is always followed by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can only be followed by a vow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can be preceded only by a vowel and except at the end of a word can only be succeeded by a vowel or C, H, P, 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s such as these with limited affinity are called pilo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0E7E2-392A-49AE-9691-7FA90284C4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36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Size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9000" y="1464840"/>
            <a:ext cx="7627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will determine both possible column sizes and run a vowel analysis of each colum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41280" y="2478240"/>
            <a:ext cx="1060560" cy="4379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683160" y="2276640"/>
            <a:ext cx="5263920" cy="4452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52360" y="3457440"/>
            <a:ext cx="1257480" cy="6192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AB160-79FE-4556-95B9-A32377DBB9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2920" y="26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gramming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5440" y="1336680"/>
            <a:ext cx="7240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provides a tool to aid in the anagramm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27000" y="2243160"/>
            <a:ext cx="1117800" cy="4614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400480" y="2638440"/>
            <a:ext cx="6591240" cy="3835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87400" y="3909960"/>
            <a:ext cx="1257480" cy="5238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869CD-5A20-44E5-9F3B-8F70087B00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9T01:47:44Z</dcterms:modified>
  <cp:revision>69</cp:revision>
  <dc:subject/>
  <dc:title>CAP Cryptographic Analysis Program</dc:title>
</cp:coreProperties>
</file>